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CD1-929D-477E-AE98-53AE9131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9F9-25F4-4B41-8A5B-2E849F61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284-9809-47CA-837A-369FC8BE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5399-4903-40E0-A04D-078F8CAC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8786-CEAE-47D5-A8BB-77C986F4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4E94-EE7E-4C02-A39F-2829F513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BC7D-A56A-4F88-BD2A-C3BBBE1F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018F-FBB1-4727-AB69-DB29BB44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2513-4608-495C-ABC7-D0123235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8646-8947-4A47-B7FE-C262C870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B9A3-650E-4B54-8FB5-6212A727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77E-5EEC-455B-82FA-4B26C6B2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F035-62E2-4C33-9CEA-59D3E8C7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4914-DAB1-432D-9E22-DDB902E7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6350-BB39-4250-8943-B2655941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562D-B45C-43A3-998E-A57F1E4C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6F14-A4C8-4505-A3E4-6CE1137E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B5C-7EA7-49CE-B2F7-EC19C593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F07-8FB6-4779-ABAF-590BE831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BD85-C280-4E97-A80B-51D355D3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046-B596-4018-B628-52B10783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668-E3B7-4BDC-B651-5AEDBB88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69A-AC76-4F59-8ABE-DDCFDC83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51C-9C14-44A7-8328-D6A903F2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645E-F926-4E04-BE36-4A9A29CC1514}" type="datetime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EB45-127F-4B55-BC9E-F73139B09103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DEE6-07CB-4CD2-93B0-F0895FFECDCD}" type="datetime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0B4A-79ED-4657-BDCB-F02E13ADC05D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textmapping.org/copyright.html" TargetMode="External"/><Relationship Id="rId4" Type="http://schemas.openxmlformats.org/officeDocument/2006/relationships/hyperlink" Target="http://www.textmapping.org/copyright.html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textmapping.org/copyright.html" TargetMode="External"/><Relationship Id="rId4" Type="http://schemas.openxmlformats.org/officeDocument/2006/relationships/hyperlink" Target="http://www.textmapping.org/copyright.html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2D53-EFC3-4F57-916A-3F4AD51C2199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lease Do Now: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elements of text (especially written text/textbooks) pose problems for student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lease list as many things as you can think of in 2 minutes.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991080" y="1828440"/>
            <a:ext cx="9829800" cy="4876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3" marL="1639800" indent="-22860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….determine your goal for reading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4" marL="2097000" indent="-228600">
              <a:spcBef>
                <a:spcPts val="700"/>
              </a:spcBef>
              <a:buClr>
                <a:srgbClr val="33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roduce and preview new conten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4" marL="2097000" indent="-228600">
              <a:spcBef>
                <a:spcPts val="700"/>
              </a:spcBef>
              <a:buClr>
                <a:srgbClr val="33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del reading and study strategie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4" marL="2097000" indent="-228600">
              <a:spcBef>
                <a:spcPts val="700"/>
              </a:spcBef>
              <a:buClr>
                <a:srgbClr val="33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view content previously covered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4" marL="2097000" indent="-228600">
              <a:spcBef>
                <a:spcPts val="700"/>
              </a:spcBef>
              <a:buClr>
                <a:srgbClr val="33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est your students’ knowledge of what they read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Proces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3840" y="15490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7826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ext, </a:t>
            </a:r>
            <a:r>
              <a:rPr b="0" lang="en-US" sz="2800" spc="-1" strike="noStrike">
                <a:solidFill>
                  <a:srgbClr val="ff4568"/>
                </a:solidFill>
                <a:latin typeface="Arial"/>
              </a:rPr>
              <a:t>identif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text features that are important to your reading goal. These features are: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80ff"/>
                </a:solidFill>
                <a:latin typeface="Arial"/>
              </a:rPr>
              <a:t>Headings and Subheadings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-Illustrations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-Graphs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-Bold faced areas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84582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826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rk these features- Particularly the headings and subheading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8458200" cy="17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826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rk the “areal boundaries” of each of these text section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84582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07960" y="2667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826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n have students mark other sections of the tex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dentify what parts of written text are related to graphs, illustrations, photos etc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rite questions,circle key words and ideas,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ave students express delight by marking ideas that are interesting…i.e. : “Wow!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rk transition words- Thus, consequently, however, etc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52280" y="4572000"/>
            <a:ext cx="8469360" cy="20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28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82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fter mapping, have students compare/contrast with other groups or individual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82680" indent="-382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iscuss the individual textmaps as a whole group with a “master” map on the board. Create graphic organizer based on the information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52280" y="5791320"/>
            <a:ext cx="8813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opyright © 2002-2004 </a:t>
            </a:r>
            <a:r>
              <a:rPr b="0" lang="en-US" sz="1800" spc="-1" strike="noStrike">
                <a:solidFill>
                  <a:srgbClr val="ffff00"/>
                </a:solidFill>
                <a:latin typeface="Lucida Grande"/>
              </a:rPr>
              <a:t>R. David Middlebrook, </a:t>
            </a:r>
            <a:r>
              <a:rPr b="0" lang="en-US" sz="1200" spc="-1" strike="noStrike">
                <a:solidFill>
                  <a:srgbClr val="ffff00"/>
                </a:solidFill>
                <a:latin typeface="Verdana"/>
              </a:rPr>
              <a:t>Terms of Use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www.textmapping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.org/copyright.htm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5"/>
          <a:stretch/>
        </p:blipFill>
        <p:spPr>
          <a:xfrm>
            <a:off x="4495680" y="228600"/>
            <a:ext cx="358164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Benefits of Text Mapp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330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is explicit-allowing teachers to model comprehension strategies to kid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eaches students to be strategic readers-gives them a view of the whole text and the relationships between structure, organization, and meaning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courages active reading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 textmap is a visual record of an individual’s thought proces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ccommodates a wide range of learning styles and effective for students with LD or AD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6066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view of the Activit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82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reate and hand out the scroll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82680" indent="-382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dentify the text featur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82680" indent="-382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ark headings and subheading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82680" indent="-382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ark areal boundari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82680" indent="-3826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ark rest of text and how the elements relat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82680" indent="-3826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view as a clas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Understanding Text Structur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82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udents who are taught to identify the structure of expository and narrative text have been found to have better comprehension than students who have not received such instruction.”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aylor, 1992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Teach It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907640"/>
            <a:ext cx="5334120" cy="52167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573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How it Helps: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nects incoming information with what students already know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creases reading speed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students retain information for application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6083280" y="2133720"/>
            <a:ext cx="306072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Teach It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82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udents must have knowledge of how information is organized and presented through different expository text structures.  Understanding text structures provides a way of identifying which information is most important and which presents supporting details.”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vanDijk and Kintsch, 1983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4AB2-DDCE-4F44-9456-7C2162FFB0E5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view Text Structure And Its Importance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1960" y="1587600"/>
            <a:ext cx="8547120" cy="52070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eaching text structure leads to greater student comprehension and independent reading.</a:t>
            </a:r>
            <a:endParaRPr b="0" lang="en-US" sz="3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re are several expository text structures that we can key our students into.  It is a scaffold for their comprehension.</a:t>
            </a:r>
            <a:endParaRPr b="0" lang="en-US" sz="3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F504-E6E9-4820-9E64-660CFEEA03C6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-254160" y="303120"/>
            <a:ext cx="4902480" cy="6249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4546440" y="703440"/>
            <a:ext cx="453564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1AF1-FC39-46CD-B554-95723AD889DB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-195120" y="-12600"/>
            <a:ext cx="5078160" cy="6667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4851360" y="366840"/>
            <a:ext cx="4533840" cy="59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Textmapping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64480" cy="1336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469360" cy="2606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760680" y="914400"/>
            <a:ext cx="199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  <a:ea typeface="Times New Roman"/>
              </a:rPr>
              <a:t>Turns this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4720" y="2971800"/>
            <a:ext cx="177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  <a:ea typeface="Times New Roman"/>
              </a:rPr>
              <a:t>Into this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0760" y="6102360"/>
            <a:ext cx="87505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opyright © 2002-2004 </a:t>
            </a:r>
            <a:r>
              <a:rPr b="0" lang="en-US" sz="1800" spc="-1" strike="noStrike">
                <a:solidFill>
                  <a:srgbClr val="ffff00"/>
                </a:solidFill>
                <a:latin typeface="Lucida Grande"/>
              </a:rPr>
              <a:t>R. David Middlebrook, </a:t>
            </a:r>
            <a:r>
              <a:rPr b="0" lang="en-US" sz="1200" spc="-1" strike="noStrike">
                <a:solidFill>
                  <a:srgbClr val="ffff00"/>
                </a:solidFill>
                <a:latin typeface="Verdana"/>
              </a:rPr>
              <a:t>Terms of Use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www.textmapping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.org/copyright.htm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Proces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82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rst…..make your scroll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165240" y="2044800"/>
            <a:ext cx="8664480" cy="1336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914400" y="3822840"/>
            <a:ext cx="716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  <a:ea typeface="Times New Roman"/>
              </a:rPr>
              <a:t>Utilize students to perform the one “heavy lifting” aspect of this strate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iam Lewis</dc:creator>
  <dc:description/>
  <dc:language>en-US</dc:language>
  <cp:lastModifiedBy>Jessica Jacobs</cp:lastModifiedBy>
  <dcterms:modified xsi:type="dcterms:W3CDTF">2009-08-11T23:46:50Z</dcterms:modified>
  <cp:revision>14</cp:revision>
  <dc:subject/>
  <dc:title>The Responsibility of Making Meaning…</dc:title>
</cp:coreProperties>
</file>